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9AC-36F5-45DA-85B8-77D66EBA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7BE-3306-4883-A0A8-14C6F141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1BB-2003-4994-A915-AB31348D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3C8-CCA4-4715-94DE-7454528B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5E0F-51A4-4EBA-98B0-548F9CAF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F733-34B5-4F5C-9DC3-271DEB0D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5B2B-6AB5-485A-BA0C-7A4A9103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8CBF-2413-4808-A20E-61B7D7FF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8D9D-7AD9-48B1-AEFE-54C43261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DD50-2DDB-46E3-A82A-BC74C358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FC0B-CFA2-42D6-ACEC-117F942D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E26-79F3-40E5-B59D-AF3AA584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7FCB-5ABC-4F23-92E4-281274AF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60EF-7F90-4ACC-8572-935F21E2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73F6-05CB-43C6-B8C9-56B51021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7AC5-0AE4-4858-93A9-9A5F63FC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3580-F536-425C-AED6-D7574AC8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43E-F445-489C-88EA-95262904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3FF-B2FC-47C5-973F-20D1C30A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50B-367D-476B-A921-D34CFC39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FBE-16B2-4279-8897-648B84AC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D1B-497E-4D4F-856F-4FA15707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01F-99B5-4E60-BCF9-0BADFDE3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692-EF50-4F17-AE66-46D7DBD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95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6E51-CBF7-4EF9-BFD2-2E012E8EEDA6}" type="slidenum"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B2AD-A440-4961-967D-09BE44659310}" type="slidenum"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 Black"/>
              </a:rPr>
              <a:t>Developing Collaboration</a:t>
            </a: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6140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An online educator’s guide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Ideas for Engaging Activitie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Discuss relevant experiences in personal introductions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Completing a sentence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Provide a Hook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Weirdest Gift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Best Vacation Spot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4" marL="20574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72b"/>
                </a:solidFill>
                <a:latin typeface="Arial"/>
              </a:rPr>
              <a:t>(Bender, 2003, p. 48-53)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Ideas for Engaging Activitie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Play a game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Ask: What do you hope to learn from the course?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hort descriptive stories about themselves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tudents interview and introduce each other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2057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(Bender, 2003, p. 48-53)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Reference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Bender, T. (2003). </a:t>
            </a:r>
            <a:r>
              <a:rPr b="0" i="1" lang="en-US" sz="3200" spc="-1" strike="noStrike">
                <a:solidFill>
                  <a:srgbClr val="58572b"/>
                </a:solidFill>
                <a:latin typeface="Arial"/>
              </a:rPr>
              <a:t>Discussion-based online teaching to enhance student learning</a:t>
            </a: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. Sterling, VI: Stylus Publishing, LLC.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Palloff, R.M., &amp; Pratt, K. (2005). </a:t>
            </a:r>
            <a:r>
              <a:rPr b="0" i="1" lang="en-US" sz="3200" spc="-1" strike="noStrike">
                <a:solidFill>
                  <a:srgbClr val="58572b"/>
                </a:solidFill>
                <a:latin typeface="Arial"/>
              </a:rPr>
              <a:t>Collaborating online</a:t>
            </a: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. San Francisco, CA: Jossey-Bass.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Getting Started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4876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Effective collaboration may be one of the most challenging tasks to develop 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Must include: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Coordination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Reflection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Setting the Stage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Effective collaboration must begin at the onset of the course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Begin the course with a simple introductory activity to engage the </a:t>
            </a:r>
            <a:br>
              <a:rPr sz="2800"/>
            </a:b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learners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Ensure students are familiar </a:t>
            </a:r>
            <a:br>
              <a:rPr sz="2800"/>
            </a:b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with the setup and </a:t>
            </a:r>
            <a:br>
              <a:rPr sz="2800"/>
            </a:b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functionality of the course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3467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Setting the Stage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5791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Have the students review the course material and ask and answer one question on a discussion thread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Ensure your expectations and course material are clear prior to students beginning coursework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48520" y="2971800"/>
            <a:ext cx="25351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reating the Environmen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Determine and identify the participation level and expectations for all synchronous or asynchronous activities at the onset of the course 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If possible, have the class help develop “Rules for Engagement”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Modeling the Proces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e instructor must demonstrate good collaboration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Recommendation:  Have the instructor complete the asynchronous activity and post to the discussion board first…allow students to commen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Learners should post and respond to posts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Guide the Proces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better to give some brief indication of what’s on your mind than to have students obsessed with whether your silence means disappointment or satisfaction with their efforts” 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72b"/>
                </a:solidFill>
                <a:latin typeface="Arial"/>
              </a:rPr>
              <a:t>(as cited in Palloff &amp; Pratt, 2005, p. 23)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The instructor must respond effectively to posts and provide useful feedback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Model this and encourage students to follow suit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Evaluating the Proces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4876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Was the learning objective met?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What was the learner’s attitude about the activity after having completed it?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What was the level of active participation?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How can this be improved next time?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30859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Tips for Succes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Model the engagement you want the learners to demonstrate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Understand that technical difficulties are bound to occur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Learner feedback is vital to future success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uccess begins the first day of class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1:49:56Z</dcterms:created>
  <dc:creator>Franko Jester</dc:creator>
  <dc:description/>
  <dc:language>en-US</dc:language>
  <cp:lastModifiedBy>Franko Jester</cp:lastModifiedBy>
  <dcterms:modified xsi:type="dcterms:W3CDTF">2011-04-22T05:08:20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64;#PowerPoint 2003;#67;#PowerPoint - Design Templt 12;#79;#Template 12;#66;#PowerPoint - Design Templt 2003;#65;#Microsoft Office PowerPoint 2007;#184;#Office 2000;#182;#Office XP</vt:lpwstr>
  </property>
  <property fmtid="{D5CDD505-2E9C-101B-9397-08002B2CF9AE}" pid="6" name="AssetId">
    <vt:lpwstr>TS001072157</vt:lpwstr>
  </property>
  <property fmtid="{D5CDD505-2E9C-101B-9397-08002B2CF9AE}" pid="7" name="AssetType">
    <vt:lpwstr>TP</vt:lpwstr>
  </property>
  <property fmtid="{D5CDD505-2E9C-101B-9397-08002B2CF9AE}" pid="8" name="AuthoringAssetId">
    <vt:lpwstr>TP001072157</vt:lpwstr>
  </property>
  <property fmtid="{D5CDD505-2E9C-101B-9397-08002B2CF9AE}" pid="9" name="BugNumber">
    <vt:lpwstr>460420L</vt:lpwstr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C3831ACA17D8814887A164412888521E</vt:lpwstr>
  </property>
  <property fmtid="{D5CDD505-2E9C-101B-9397-08002B2CF9AE}" pid="12" name="IsDeleted">
    <vt:lpwstr>0</vt:lpwstr>
  </property>
  <property fmtid="{D5CDD505-2E9C-101B-9397-08002B2CF9AE}" pid="13" name="IsSearchable">
    <vt:lpwstr>0</vt:lpwstr>
  </property>
  <property fmtid="{D5CDD505-2E9C-101B-9397-08002B2CF9AE}" pid="14" name="Markets">
    <vt:lpwstr/>
  </property>
  <property fmtid="{D5CDD505-2E9C-101B-9397-08002B2CF9AE}" pid="15" name="Milestone">
    <vt:lpwstr>Continuous</vt:lpwstr>
  </property>
  <property fmtid="{D5CDD505-2E9C-101B-9397-08002B2CF9AE}" pid="16" name="NumericId">
    <vt:lpwstr>-1.00000000000000</vt:lpwstr>
  </property>
  <property fmtid="{D5CDD505-2E9C-101B-9397-08002B2CF9AE}" pid="17" name="OpenTemplate">
    <vt:lpwstr>1</vt:lpwstr>
  </property>
  <property fmtid="{D5CDD505-2E9C-101B-9397-08002B2CF9AE}" pid="18" name="PrimaryImageGen">
    <vt:lpwstr>1</vt:lpwstr>
  </property>
  <property fmtid="{D5CDD505-2E9C-101B-9397-08002B2CF9AE}" pid="19" name="Provider">
    <vt:lpwstr>EY006220130</vt:lpwstr>
  </property>
  <property fmtid="{D5CDD505-2E9C-101B-9397-08002B2CF9AE}" pid="20" name="PublishStatusLookup">
    <vt:lpwstr>258233</vt:lpwstr>
  </property>
  <property fmtid="{D5CDD505-2E9C-101B-9397-08002B2CF9AE}" pid="21" name="PublishTargets">
    <vt:lpwstr>OfficeOnline</vt:lpwstr>
  </property>
  <property fmtid="{D5CDD505-2E9C-101B-9397-08002B2CF9AE}" pid="22" name="ShowIn">
    <vt:lpwstr>Show everywhere</vt:lpwstr>
  </property>
  <property fmtid="{D5CDD505-2E9C-101B-9397-08002B2CF9AE}" pid="23" name="SourceTitle">
    <vt:lpwstr>Technology at work design template</vt:lpwstr>
  </property>
  <property fmtid="{D5CDD505-2E9C-101B-9397-08002B2CF9AE}" pid="24" name="TPAppVersion">
    <vt:lpwstr>11</vt:lpwstr>
  </property>
  <property fmtid="{D5CDD505-2E9C-101B-9397-08002B2CF9AE}" pid="25" name="TPApplication">
    <vt:lpwstr>PowerPoint</vt:lpwstr>
  </property>
  <property fmtid="{D5CDD505-2E9C-101B-9397-08002B2CF9AE}" pid="26" name="TPClientViewer">
    <vt:lpwstr>Microsoft Office PowerPoint</vt:lpwstr>
  </property>
  <property fmtid="{D5CDD505-2E9C-101B-9397-08002B2CF9AE}" pid="27" name="TPCommandLine">
    <vt:lpwstr>{PP} {FilePath}</vt:lpwstr>
  </property>
  <property fmtid="{D5CDD505-2E9C-101B-9397-08002B2CF9AE}" pid="28" name="TPComponent">
    <vt:lpwstr>PPTFiles</vt:lpwstr>
  </property>
  <property fmtid="{D5CDD505-2E9C-101B-9397-08002B2CF9AE}" pid="29" name="TPFriendlyName">
    <vt:lpwstr>Technology at work design template</vt:lpwstr>
  </property>
  <property fmtid="{D5CDD505-2E9C-101B-9397-08002B2CF9AE}" pid="30" name="TPInstallLocation">
    <vt:lpwstr>{Document Themes}</vt:lpwstr>
  </property>
  <property fmtid="{D5CDD505-2E9C-101B-9397-08002B2CF9AE}" pid="31" name="TPLaunchHelpLink">
    <vt:lpwstr/>
  </property>
  <property fmtid="{D5CDD505-2E9C-101B-9397-08002B2CF9AE}" pid="32" name="TPLaunchHelpLinkType">
    <vt:lpwstr>Template</vt:lpwstr>
  </property>
  <property fmtid="{D5CDD505-2E9C-101B-9397-08002B2CF9AE}" pid="33" name="TPNamespace">
    <vt:lpwstr>POWERPNT</vt:lpwstr>
  </property>
  <property fmtid="{D5CDD505-2E9C-101B-9397-08002B2CF9AE}" pid="34" name="TemplateStatus">
    <vt:lpwstr>Complete</vt:lpwstr>
  </property>
  <property fmtid="{D5CDD505-2E9C-101B-9397-08002B2CF9AE}" pid="35" name="TrustLevel">
    <vt:lpwstr>Microsoft Managed Content</vt:lpwstr>
  </property>
  <property fmtid="{D5CDD505-2E9C-101B-9397-08002B2CF9AE}" pid="36" name="UACurrentWords">
    <vt:lpwstr>0</vt:lpwstr>
  </property>
  <property fmtid="{D5CDD505-2E9C-101B-9397-08002B2CF9AE}" pid="37" name="UALocRecommendation">
    <vt:lpwstr>Localize</vt:lpwstr>
  </property>
  <property fmtid="{D5CDD505-2E9C-101B-9397-08002B2CF9AE}" pid="38" name="UANotes">
    <vt:lpwstr>429034L. June 2003 retrofit. Premium Exception Oct. 2003</vt:lpwstr>
  </property>
  <property fmtid="{D5CDD505-2E9C-101B-9397-08002B2CF9AE}" pid="39" name="Version">
    <vt:r8>2</vt:r8>
  </property>
  <property fmtid="{D5CDD505-2E9C-101B-9397-08002B2CF9AE}" pid="40" name="display_urn:schemas-microsoft-com:office:office#APAuthor">
    <vt:lpwstr>REDMOND\cynvey</vt:lpwstr>
  </property>
  <property fmtid="{D5CDD505-2E9C-101B-9397-08002B2CF9AE}" pid="41" name="display_urn:schemas-microsoft-com:office:office#APEditor">
    <vt:lpwstr>REDMOND\v-luannv</vt:lpwstr>
  </property>
</Properties>
</file>